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3.png" ContentType="image/pn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072B-4667-4A4A-B163-F95A2D298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1571-C668-4798-A37E-4F45DDF8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2044-9919-47CE-B52F-0804C877A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1F0A-E1B4-409B-8FD8-87576A6F5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A9833-26B1-4289-8D7B-862376BBF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4CB6-87AB-41AB-BF81-FC1ADA4B9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7DCDA-4C51-42A2-92B2-9CD10028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8B42-E80B-4F5F-AC2C-5C20760B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9B01-35A3-459F-897D-CA4A10B6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AF4F-6457-4F4E-9665-DE97D6B7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96844-2E6A-4C03-8FEE-6CC0C26A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0022-7B58-4EF0-B201-78DC4E19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4B88-6E9B-48E2-9A39-82E68206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2589-17EE-476E-A1E2-3DB67511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3C1CA-A285-490B-B884-526B96F9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2FC6-A593-4DF9-B1D1-98261C0A3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2687-F01B-4439-9EF6-7EB66FFC1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B8353-CD58-4F43-8DC1-C85AD7F83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7376A-F662-47BC-81F4-56CFC5BE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2080E-5DDB-4685-9B2F-C7BBC3CE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71C78-0B94-4424-9A93-4525E9A5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9656B-8169-44C2-90AC-A7D27C3A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F1E0-6D0A-40EA-A187-CD4CE2F2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04817-3BCD-4CC0-A2EE-D6A6F12E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F39F6-F73D-4A06-BF02-C623D135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D2B81-E130-48E8-9BB6-129F13D8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C764A-0EF7-4930-A258-050DE8FA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3AA23-477C-4D61-AA94-1CF00102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050C2-09BE-487B-A7BC-7B7412397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F1159-F6C8-4C95-B1B6-9CED661F2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8B6A2-F7E6-4E71-952D-788BB0F39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49C2D-6BE0-4853-B089-75CF7A09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C1CD4-6105-4113-965E-38DCF8B1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887C-0DC7-4F19-A6C5-3584A49A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C186C-A60F-44C3-85A8-D411970D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DF0A8-1AFB-4CAF-A393-189B6383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342DD-4D90-42E4-831A-E09BFDF3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E60A0-3C69-4873-8F26-7FA74631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DCD4E-0E48-478D-A784-F7A1153D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2A6A3-EBEE-4844-9A2A-EC61094F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704B6-6F84-49FE-B520-BCD0869A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09F85-6D94-4D8F-88F6-8CE534C61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CF766-B2C9-4EA1-BC7D-E5E5ABEF8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CF84-80F6-4872-82CC-171E705F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FC38-EFAF-40CF-BABF-ED392E43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4581-0E92-4F6A-B9AD-97B3AD01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96E7-6112-47BD-8F25-4C8F6891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ED6F-E9DE-4915-B122-92B4DEDE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ADB9-8103-49BA-BCDB-9DD14479340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9B31-4A86-4ADE-946A-D28AF0CD202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D6D5-AED3-4085-9D52-5DA722BB0F8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8614-EB7E-4E0A-A537-30840DE8E52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268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готовила: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физики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хина М.С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БОУ СОШ № 29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.Новороссийск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войства магнитного поля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500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nstantia"/>
              </a:rPr>
              <a:t>Магнитное поле порождается магнитами и токами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nstantia"/>
              </a:rPr>
              <a:t>Магнитное поле обнаруживается по действию на магниты и токи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Рисунок 5" descr="magnit polosovoi.jpg"/>
          <p:cNvPicPr/>
          <p:nvPr/>
        </p:nvPicPr>
        <p:blipFill>
          <a:blip r:embed="rId1"/>
          <a:stretch/>
        </p:blipFill>
        <p:spPr>
          <a:xfrm>
            <a:off x="1042920" y="4221000"/>
            <a:ext cx="6697800" cy="2286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Направление магнитного пол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Магнитная стрелка, которая может свободно вращаться вокруг совей оси, всегда устанавливается, ориентируясь определенным образом, в данной области магнитного поля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Направление, на которое указывает северный полюс магнитной стрелки, является направлением магнитного поля в данной точке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4572000" y="1916280"/>
            <a:ext cx="4248000" cy="44654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Линии магнитного пол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0000"/>
                </a:solidFill>
                <a:latin typeface="Constantia"/>
              </a:rPr>
              <a:t>Линиями магнитного поля являются линии, проведенные так, что касательные к ним в каждой точке указывают направление поля в этой точк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Линии замкнуты, реально не существую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4762440" y="1989000"/>
            <a:ext cx="4130640" cy="42483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авило правой руки</a:t>
            </a:r>
            <a:br>
              <a:rPr sz="5000"/>
            </a:br>
            <a:r>
              <a:rPr b="0" lang="ru-RU" sz="2200" spc="-1" strike="noStrike">
                <a:solidFill>
                  <a:srgbClr val="04617b"/>
                </a:solidFill>
                <a:latin typeface="Calibri"/>
              </a:rPr>
              <a:t>( для определения направления линий магнитного поля)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0000"/>
                </a:solidFill>
                <a:latin typeface="Constantia"/>
              </a:rPr>
              <a:t>Если обхватить проводник с током ладонью правой руки, направив четыре пальца по направлению тока в витках, то большой отогнутый палец покажет направление линий магнитного поля внутри проводник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4643280" y="2060640"/>
            <a:ext cx="3889440" cy="3960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Устройство и принцип работы электромагнит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атушка, по которой течет электрический ток, является магнитом и имеет два полюса- северный и южный. При увеличении силы тока магнитное поле катушки усиливается, а также при введение внутрь катушки железного сердечника. Такую катушку называют электромагнитом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2" descr="C:\Users\dns\Desktop\IMG_2645_enl-300x246.jpg"/>
          <p:cNvPicPr/>
          <p:nvPr/>
        </p:nvPicPr>
        <p:blipFill>
          <a:blip r:embed="rId1"/>
          <a:stretch/>
        </p:blipFill>
        <p:spPr>
          <a:xfrm>
            <a:off x="4859280" y="2205000"/>
            <a:ext cx="3889440" cy="3672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Закрепление пройденного материала. ТЕСТ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1. Что обязательно существует вокруг проводника с током?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а) магнитное поле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б)кристаллизация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в)энергии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г)излучение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2. Кто впервые обнаружил взаимодействие проводника с током и магнитной стрелкой?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а)Галилей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б)Ньютон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в)Эрстед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г)Ампер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3. Как называются линии, вдоль которых в магнитном поле располагаются оси маленьких магнитных стрелок?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а)траектории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б)линии поля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в)магнитные линии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г)лини тока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4.Магнитные линии прямого тока представляют собой..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а) замкнутые кривые, охватывающие проводник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б) прямые, параллельные проводнику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в) прямые, перпендикулярные проводнику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5. При пропускании постоянного тока через проводник вокруг него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возникло магнитное поле. Оно обнаруживается по расположению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стальных опилок на листе бум аги по повороту магнитной стрелки.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В каком случае это магнитное поле исчезнет?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а) Если убрать стальные опилки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б) Если выключить электрический ток в проводе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в) Однажды созданное магнитное поле никогда не исчезнет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г) Если нагреть стальные опилки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Ключ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57200" y="1935000"/>
          <a:ext cx="8229600" cy="2225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омер вопро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т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омашнее задание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Constantia"/>
              </a:rPr>
              <a:t>Прочитать § 56-58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nstantia"/>
              </a:rPr>
              <a:t>ответить на вопросы к параграфу;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nstantia"/>
              </a:rPr>
              <a:t>выполнить  упр. 28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89ca3"/>
                </a:solidFill>
                <a:latin typeface="Constantia"/>
              </a:rPr>
              <a:t>Благодарю за внимание!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Цель урока: </a:t>
            </a: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сформировать у учащихся научные представления о магнитном поле и установить связь между электрическим током и магнитным полем, ознакомить учащихся с устройством электромагнитов и их применением. 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Оборудование</a:t>
            </a: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: интерактивная  доска, презентация « Магнитное моле», полосовой и дуговой магнит, компас, модель для демонстрации магнитных линий, гвозди, источник питания, лампочка, проводники и ключ.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Задачи: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-проверить знания учащихся по теме «Электрическое поле»,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- познакомить с понятием магнитное поле и силовые линии магнитного поля,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- выяснить, что является источником и индикатором магнитного поля,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-развивать умение анализировать и систематизировать знания;</a:t>
            </a:r>
            <a:r>
              <a:rPr b="0" i="1" lang="ru-RU" sz="1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Актуализация знаний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Constantia"/>
              </a:rPr>
              <a:t>Электрический заряд – это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Constantia"/>
              </a:rPr>
              <a:t>Как взаимодействуют между собой электрически заряженные тела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Constantia"/>
              </a:rPr>
              <a:t>Электрическое поле – это …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Constantia"/>
              </a:rPr>
              <a:t>Основные свойства электрического поля :..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Constantia"/>
              </a:rPr>
              <a:t>Что такое электрический ток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Constantia"/>
              </a:rPr>
              <a:t>Какое действие оказывает электрический ток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Немного истории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Магнетизм известен с пятого века до нашей эры. Еще древние греки знали, что существует особый минерал камень из Магнесии, способный притягивать небольшие железные предметы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первые свойства магнита были описаны в 1269 г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А первой крупной работой является книга Вильяма Гильберта «О магните», вышедшая в 1600 г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4957920" y="1920960"/>
            <a:ext cx="3419280" cy="44337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пыты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Опыт 1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  Все ли вещества обладают магнитным притяжением и отталкиванием?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Опыт 2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Два полюса магнита и их взаимодействие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Опыт 3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Подвесить магнит на нити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Свойства магнитных материал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агнитное притяжение и отталкивание присущи только некоторым телам: железной руде, железу, стали и некоторым сплава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агнит имеет два полюса: северный и южны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дноименные полюса магнитов отталкиваются, а разноименные- притягиваютс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вободно подвешенный магнит ориентируется определенным образом относительно стран свет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Магнитное взаимодейств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агнитные взаимодействия рассматривались первоначально не связанные с элекрическими. Хотя в далекие времена было известно, что молния перемагничивала компасы на кораблях, намагничивает стальные предметы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4648320" y="2651040"/>
            <a:ext cx="4038480" cy="2973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Обнаружение связи между магнитными и электрическими явлениями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гда Эрстед читал лекцию о постоянных токах, он обратил внимание то, что магнитная стрелка, находившаяся вблизи проводника, повернулась при включении ток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ctr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0000"/>
                </a:solidFill>
                <a:latin typeface="Constantia"/>
              </a:rPr>
              <a:t>Существуют взаимодействия магнит с магнитом и электрического тока с магнитом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мпер экспериментально обнаружил, что параллельные проводники с токами взаимодействуют друг с другом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ctr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onstantia"/>
              </a:rPr>
              <a:t>Вопрос: По средствам чего взаимодействую проводники с током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Магнитное пол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onstantia"/>
              </a:rPr>
              <a:t>В пространстве вокруг проводника с током возникают силы, действующие на движущиеся заряды и на магнитную стрелку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Магнитное поле – особый вид материи, основной особенностью которого является действие на движущиеся заряженные частицы и магнит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5227560" y="1920960"/>
            <a:ext cx="2879640" cy="44337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4T04:43:42Z</dcterms:created>
  <dc:creator>dns</dc:creator>
  <dc:description/>
  <dc:language>en-US</dc:language>
  <cp:lastModifiedBy>User</cp:lastModifiedBy>
  <dcterms:modified xsi:type="dcterms:W3CDTF">2015-03-24T10:10:45Z</dcterms:modified>
  <cp:revision>27</cp:revision>
  <dc:subject/>
  <dc:title>Магнитное поле тока</dc:title>
</cp:coreProperties>
</file>